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5EA3A-0404-4B0B-877A-CFCCF6A0AC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C9469-4648-47A5-BE9D-134EF8029F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B70DE-F75F-4255-BD12-C260B95B73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26655-9721-4397-A669-ACB84DFD80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D8480-4367-41AD-AA39-2EF258EB8A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0D539-DD99-413D-9E33-04479BB1D7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FBEF6-33FC-4470-B74A-25279DF25F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4B311-94AF-4A95-87EC-CC1932B7AC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37B5-69A8-4839-96EC-3C1915C48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0CAB-0187-4AA6-A596-B64D19CC0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4241-349F-4BDF-8557-334E9A850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1BC3-3320-46FA-9133-E67C86488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2B08-EE6F-4F7B-8FAB-665CEECB0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958A-71BA-4746-B452-6C6F928D6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129B-5513-4E34-BD71-5186DEDD1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BB25-FC3E-4255-A9D0-FD74F7C60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5F7A-4D48-4754-8E67-382DE465B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AB7A-DCDA-4D3D-9A2D-CDCE90CD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A81E-3839-44D3-B306-1E6A9B4D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804F-D870-4CC1-8688-A2B4B1FF7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550"/>
              </a:spcBef>
              <a:buClr>
                <a:srgbClr val="008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550"/>
              </a:spcBef>
              <a:buClr>
                <a:srgbClr val="4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1CBA0-2E33-4705-8560-E4D859B980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917UC2MZOGU&amp;feature=related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ES OF TODAY’S ACTIVIT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PIC: Buoya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After today’s activity, you will be able 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Use the concept of buoyancy to explain how magmas ri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up work &amp; Homework: Buoyanc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76" name="Rectangle 3" descr=""/>
          <p:cNvPicPr/>
          <p:nvPr/>
        </p:nvPicPr>
        <p:blipFill>
          <a:blip r:embed="rId1"/>
          <a:stretch/>
        </p:blipFill>
        <p:spPr>
          <a:xfrm>
            <a:off x="378000" y="1212840"/>
            <a:ext cx="854064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UAL PRINCIPLE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lnSpc>
                <a:spcPct val="125000"/>
              </a:lnSpc>
              <a:spcBef>
                <a:spcPts val="550"/>
              </a:spcBef>
              <a:buClr>
                <a:srgbClr val="0000b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Gravitational energy, thermal energy and/or chemical </a:t>
            </a:r>
            <a:r>
              <a:rPr b="1" lang="en-US" sz="2200" spc="-1" strike="noStrike">
                <a:solidFill>
                  <a:srgbClr val="0000bf"/>
                </a:solidFill>
                <a:latin typeface="Arial"/>
              </a:rPr>
              <a:t>energy</a:t>
            </a: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 drive all movement and change of matter on Eart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2. A system is in </a:t>
            </a:r>
            <a:r>
              <a:rPr b="1" lang="en-US" sz="2200" spc="-1" strike="noStrike">
                <a:solidFill>
                  <a:srgbClr val="0000bf"/>
                </a:solidFill>
                <a:latin typeface="Arial"/>
              </a:rPr>
              <a:t>equilibrium</a:t>
            </a: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 when energy in the system is balanc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5. </a:t>
            </a:r>
            <a:r>
              <a:rPr b="1" lang="en-US" sz="2200" spc="-1" strike="noStrike">
                <a:solidFill>
                  <a:srgbClr val="0000bf"/>
                </a:solidFill>
                <a:latin typeface="Arial"/>
              </a:rPr>
              <a:t>Temperature </a:t>
            </a: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is a measure of the movement of molecules. Higher temperature means molecules are moving faster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6. When molecules move faster, the </a:t>
            </a:r>
            <a:r>
              <a:rPr b="1" lang="en-US" sz="2200" spc="-1" strike="noStrike">
                <a:solidFill>
                  <a:srgbClr val="0000bf"/>
                </a:solidFill>
                <a:latin typeface="Arial"/>
              </a:rPr>
              <a:t>density</a:t>
            </a: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 of most substances decreases.  Water is anomaly because liquid water is more dense than ic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7. </a:t>
            </a:r>
            <a:r>
              <a:rPr b="1" lang="en-US" sz="2200" spc="-1" strike="noStrike">
                <a:solidFill>
                  <a:srgbClr val="0000bf"/>
                </a:solidFill>
                <a:latin typeface="Arial"/>
              </a:rPr>
              <a:t>Buoyancy</a:t>
            </a: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 causes materials to rise or fall due to the relative density of materials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 Temperature and Densit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304920" y="1219320"/>
            <a:ext cx="4572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mperatu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acts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s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f materi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ad"/>
                </a:solidFill>
                <a:latin typeface="Arial"/>
                <a:ea typeface="Arial"/>
              </a:rPr>
              <a:t>Q. How does increasing temperature cause decreasing densit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. Increasing temperature causes molecules to move faster, spread out and for the density of decreas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Box 7"/>
          <p:cNvSpPr/>
          <p:nvPr/>
        </p:nvSpPr>
        <p:spPr>
          <a:xfrm>
            <a:off x="5181480" y="6334200"/>
            <a:ext cx="3962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blank005.tripod.com/geology/graphic/tectonics/beaker.gi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4" descr="convectionbeaker.gif"/>
          <p:cNvPicPr/>
          <p:nvPr/>
        </p:nvPicPr>
        <p:blipFill>
          <a:blip r:embed="rId1"/>
          <a:stretch/>
        </p:blipFill>
        <p:spPr>
          <a:xfrm>
            <a:off x="5181480" y="990720"/>
            <a:ext cx="34038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onstration: Buoyanc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re is a video of a Galileo Thermomete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www.youtube.com/watch?v=917UC2MZOGU&amp;feature=relate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bubbles of different colored material have different chemical properties that mean their density changes at different temperatures.  As a result, they are more or less buoyant at different temperatu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 Buoyanc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Q. What is buoyanc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9"/>
          <p:cNvSpPr/>
          <p:nvPr/>
        </p:nvSpPr>
        <p:spPr>
          <a:xfrm>
            <a:off x="228600" y="58752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. The force that is equal to the weight of the water the object displ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6324480" y="4572000"/>
            <a:ext cx="2819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misclab.umeoce.maine.edu/boss/classes/SMS_491_2003/buoyancy.g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6" descr="buoyancy.gif"/>
          <p:cNvPicPr/>
          <p:nvPr/>
        </p:nvPicPr>
        <p:blipFill>
          <a:blip r:embed="rId1"/>
          <a:stretch/>
        </p:blipFill>
        <p:spPr>
          <a:xfrm>
            <a:off x="609480" y="1494000"/>
            <a:ext cx="5181840" cy="41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 Buoyanc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Q. How does buoyancy make things float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9"/>
          <p:cNvSpPr/>
          <p:nvPr/>
        </p:nvSpPr>
        <p:spPr>
          <a:xfrm>
            <a:off x="533520" y="55627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. The density of the object is compared to the density of the fluid it is immersed in.  If the object is less dense than the fluid, it will ris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7010280" y="4495680"/>
            <a:ext cx="213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en.wikipedia.org/wiki/File:Buoyancy.sv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6" descr="500px-Buoyancy.png"/>
          <p:cNvPicPr/>
          <p:nvPr/>
        </p:nvPicPr>
        <p:blipFill>
          <a:blip r:embed="rId1"/>
          <a:stretch/>
        </p:blipFill>
        <p:spPr>
          <a:xfrm>
            <a:off x="2666880" y="1371600"/>
            <a:ext cx="33530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gma Rising in the Lithospher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69" name="Picture 4" descr="Subduction diagram.jpg"/>
          <p:cNvPicPr/>
          <p:nvPr/>
        </p:nvPicPr>
        <p:blipFill>
          <a:blip r:embed="rId1"/>
          <a:stretch/>
        </p:blipFill>
        <p:spPr>
          <a:xfrm>
            <a:off x="838080" y="1393920"/>
            <a:ext cx="7548840" cy="4549680"/>
          </a:xfrm>
          <a:prstGeom prst="rect">
            <a:avLst/>
          </a:prstGeom>
          <a:ln w="0">
            <a:noFill/>
          </a:ln>
        </p:spPr>
      </p:pic>
      <p:sp>
        <p:nvSpPr>
          <p:cNvPr id="70" name="TextBox 3"/>
          <p:cNvSpPr/>
          <p:nvPr/>
        </p:nvSpPr>
        <p:spPr>
          <a:xfrm>
            <a:off x="838080" y="601992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by Scott Cla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bel the diagram with the causal principle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5. </a:t>
            </a:r>
            <a:r>
              <a:rPr b="1" lang="en-US" sz="2200" spc="-1" strike="noStrike">
                <a:solidFill>
                  <a:srgbClr val="0000bf"/>
                </a:solidFill>
                <a:latin typeface="Arial"/>
              </a:rPr>
              <a:t>Temperature </a:t>
            </a: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is a measure of the movement of molecules. Higher temperature means molecules are moving faster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6. When molecules move faster, the </a:t>
            </a:r>
            <a:r>
              <a:rPr b="1" lang="en-US" sz="2200" spc="-1" strike="noStrike">
                <a:solidFill>
                  <a:srgbClr val="0000bf"/>
                </a:solidFill>
                <a:latin typeface="Arial"/>
              </a:rPr>
              <a:t>density</a:t>
            </a: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 of most substances decreases.  Water is anomaly because liquid water is more dense than ic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7. </a:t>
            </a:r>
            <a:r>
              <a:rPr b="1" lang="en-US" sz="2200" spc="-1" strike="noStrike">
                <a:solidFill>
                  <a:srgbClr val="0000bf"/>
                </a:solidFill>
                <a:latin typeface="Arial"/>
              </a:rPr>
              <a:t>Buoyancy</a:t>
            </a: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 causes materials to rise or fall due to the relative density of materials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spcBef>
                <a:spcPts val="550"/>
              </a:spcBef>
              <a:buClr>
                <a:srgbClr val="0000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ying causal processes for magma movement in the lithospher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0" y="1905120"/>
          <a:ext cx="9144000" cy="4267080"/>
        </p:xfrm>
        <a:graphic>
          <a:graphicData uri="http://schemas.openxmlformats.org/drawingml/2006/table">
            <a:tbl>
              <a:tblPr/>
              <a:tblGrid>
                <a:gridCol w="3733920"/>
                <a:gridCol w="5410080"/>
              </a:tblGrid>
              <a:tr h="1119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ad"/>
                          </a:solidFill>
                          <a:latin typeface="Arial"/>
                          <a:ea typeface="Cambria"/>
                        </a:rPr>
                        <a:t>Factors impacting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ad"/>
                      </a:solidFill>
                    </a:lnL>
                    <a:lnR w="5760">
                      <a:solidFill>
                        <a:srgbClr val="0000ad"/>
                      </a:solidFill>
                    </a:lnR>
                    <a:lnT w="5760">
                      <a:solidFill>
                        <a:srgbClr val="0000ad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ad"/>
                          </a:solidFill>
                          <a:latin typeface="Arial"/>
                          <a:ea typeface="Arial"/>
                        </a:rPr>
                        <a:t>Aspects of the magma or surrounding lithospher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ad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1573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nsity of mag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ad"/>
                      </a:solidFill>
                    </a:lnL>
                    <a:lnR w="5760">
                      <a:solidFill>
                        <a:srgbClr val="0000ad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ad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ad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1574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uoyancy of the magma/lithosphere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ad"/>
                      </a:solidFill>
                    </a:lnL>
                    <a:lnR w="5760">
                      <a:solidFill>
                        <a:srgbClr val="0000ad"/>
                      </a:solidFill>
                    </a:lnR>
                    <a:lnT w="5760">
                      <a:solidFill>
                        <a:srgbClr val="0000ad"/>
                      </a:solidFill>
                    </a:lnT>
                    <a:lnB w="5760">
                      <a:solidFill>
                        <a:srgbClr val="0000ad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ad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5T15:36:25Z</dcterms:created>
  <dc:creator>Julie Libarkin</dc:creator>
  <dc:description/>
  <dc:language>en-US</dc:language>
  <cp:lastModifiedBy>Nicole LaDue</cp:lastModifiedBy>
  <dcterms:modified xsi:type="dcterms:W3CDTF">2011-01-13T19:50:15Z</dcterms:modified>
  <cp:revision>316</cp:revision>
  <dc:subject/>
  <dc:title>PowerPoint Presentation</dc:title>
</cp:coreProperties>
</file>